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8.jpeg" ContentType="image/jpeg"/>
  <Override PartName="/ppt/media/image10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7.gif" ContentType="image/gif"/>
  <Override PartName="/ppt/media/image39.png" ContentType="image/png"/>
  <Override PartName="/ppt/media/image12.jpeg" ContentType="image/jpeg"/>
  <Override PartName="/ppt/media/image30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5C80-EF6D-4776-832B-764B577C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1D1C-F629-4D89-A744-987C1A53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3B8B-04A9-471D-84E7-8BA3BA7A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799-A700-4A06-A212-D5F6EFE4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6030-740E-4C61-93FC-522EBAF9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6268-C007-4130-A4DF-E03372A0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3308-2DE0-4E1A-8F2C-F3181148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BE01-2889-4A89-8E48-20438405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20D4-EC83-4FB7-BA20-8DC5B97B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9EB3-0983-494D-AF23-5C05A3A8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AEDC-BE54-44D0-AD2D-CA3240E3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3C81-49DA-4CB1-8166-D395BA4D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D92A-4E0A-4EBB-B3A3-07F76853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B419-C5F5-4609-AF08-30837B92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8A91-8D85-474C-BA8D-F12AC1D3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3C22-949B-4B1E-B75C-97F1BD28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A433-E0CB-4AF4-BF3C-A7FEBC5C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AB9C-4070-4549-B295-9306D9D3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C37-D4F4-40A8-8D55-D6F56A92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15B-6119-4615-A607-C7B6B9B7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6FD0-4688-4488-BDEE-CF8FE935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25B4-79EC-48ED-8EAF-9016715C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E02A-A23A-4E63-AB35-84E47D60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66A2-B892-421F-88C1-CC0B7751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Group 3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Group 5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Freeform 6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>
                      <a:gd name="textAreaLeft" fmla="*/ 0 w 125280"/>
                      <a:gd name="textAreaRight" fmla="*/ 125280 w 125280"/>
                      <a:gd name="textAreaTop" fmla="*/ 0 h 317160"/>
                      <a:gd name="textAreaBottom" fmla="*/ 317520 h 317160"/>
                    </a:gdLst>
                    <a:ahLst/>
                    <a:rect l="textAreaLeft" t="textAreaTop" r="textAreaRight" b="textAreaBottom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Freeform 7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>
                      <a:gd name="textAreaLeft" fmla="*/ 0 w 231840"/>
                      <a:gd name="textAreaRight" fmla="*/ 232200 w 23184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42920"/>
                      <a:gd name="textAreaBottom" fmla="*/ 143280 h 142920"/>
                    </a:gdLst>
                    <a:ahLst/>
                    <a:rect l="textAreaLeft" t="textAreaTop" r="textAreaRight" b="textAreaBottom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Freeform 9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200"/>
                    <a:gd name="textAreaBottom" fmla="*/ 160560 h 16020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17360"/>
                      <a:gd name="textAreaBottom" fmla="*/ 117720 h 117360"/>
                    </a:gdLst>
                    <a:ahLst/>
                    <a:rect l="textAreaLeft" t="textAreaTop" r="textAreaRight" b="textAreaBottom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>
                      <a:gd name="textAreaLeft" fmla="*/ 0 w 85680"/>
                      <a:gd name="textAreaRight" fmla="*/ 85680 w 85680"/>
                      <a:gd name="textAreaTop" fmla="*/ 0 h 149400"/>
                      <a:gd name="textAreaBottom" fmla="*/ 149760 h 149400"/>
                    </a:gdLst>
                    <a:ahLst/>
                    <a:rect l="textAreaLeft" t="textAreaTop" r="textAreaRight" b="textAreaBottom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>
                      <a:gd name="textAreaLeft" fmla="*/ 0 w 150840"/>
                      <a:gd name="textAreaRight" fmla="*/ 151200 w 150840"/>
                      <a:gd name="textAreaTop" fmla="*/ 0 h 138240"/>
                      <a:gd name="textAreaBottom" fmla="*/ 138240 h 138240"/>
                    </a:gdLst>
                    <a:ahLst/>
                    <a:rect l="textAreaLeft" t="textAreaTop" r="textAreaRight" b="textAreaBottom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Freeform 15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>
                    <a:gd name="textAreaLeft" fmla="*/ 0 w 1038240"/>
                    <a:gd name="textAreaRight" fmla="*/ 1038600 w 1038240"/>
                    <a:gd name="textAreaTop" fmla="*/ 0 h 1101960"/>
                    <a:gd name="textAreaBottom" fmla="*/ 1102320 h 1101960"/>
                  </a:gdLst>
                  <a:ahLst/>
                  <a:rect l="textAreaLeft" t="textAreaTop" r="textAreaRight" b="textAreaBottom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>
                    <a:gd name="textAreaLeft" fmla="*/ 0 w 576360"/>
                    <a:gd name="textAreaRight" fmla="*/ 576720 w 57636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>
                    <a:gd name="textAreaLeft" fmla="*/ 0 w 262080"/>
                    <a:gd name="textAreaRight" fmla="*/ 262440 w 262080"/>
                    <a:gd name="textAreaTop" fmla="*/ 0 h 289080"/>
                    <a:gd name="textAreaBottom" fmla="*/ 289440 h 289080"/>
                  </a:gdLst>
                  <a:ahLst/>
                  <a:rect l="textAreaLeft" t="textAreaTop" r="textAreaRight" b="textAreaBottom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395280"/>
                    <a:gd name="textAreaBottom" fmla="*/ 395640 h 395280"/>
                  </a:gdLst>
                  <a:ahLst/>
                  <a:rect l="textAreaLeft" t="textAreaTop" r="textAreaRight" b="textAreaBottom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372960"/>
                    <a:gd name="textAreaBottom" fmla="*/ 373320 h 372960"/>
                  </a:gdLst>
                  <a:ahLst/>
                  <a:rect l="textAreaLeft" t="textAreaTop" r="textAreaRight" b="textAreaBottom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>
                    <a:gd name="textAreaLeft" fmla="*/ 0 w 331920"/>
                    <a:gd name="textAreaRight" fmla="*/ 332280 w 331920"/>
                    <a:gd name="textAreaTop" fmla="*/ 0 h 492120"/>
                    <a:gd name="textAreaBottom" fmla="*/ 492480 h 492120"/>
                  </a:gdLst>
                  <a:ahLst/>
                  <a:rect l="textAreaLeft" t="textAreaTop" r="textAreaRight" b="textAreaBottom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541440"/>
                    <a:gd name="textAreaBottom" fmla="*/ 541440 h 541440"/>
                  </a:gdLst>
                  <a:ahLst/>
                  <a:rect l="textAreaLeft" t="textAreaTop" r="textAreaRight" b="textAreaBottom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458640"/>
                    <a:gd name="textAreaBottom" fmla="*/ 459000 h 458640"/>
                  </a:gdLst>
                  <a:ahLst/>
                  <a:rect l="textAreaLeft" t="textAreaTop" r="textAreaRight" b="textAreaBottom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>
                    <a:gd name="textAreaLeft" fmla="*/ 0 w 262080"/>
                    <a:gd name="textAreaRight" fmla="*/ 262440 w 262080"/>
                    <a:gd name="textAreaTop" fmla="*/ 0 h 376200"/>
                    <a:gd name="textAreaBottom" fmla="*/ 376560 h 376200"/>
                  </a:gdLst>
                  <a:ahLst/>
                  <a:rect l="textAreaLeft" t="textAreaTop" r="textAreaRight" b="textAreaBottom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Group 24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Freeform 25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>
                    <a:gd name="textAreaLeft" fmla="*/ 0 w 1884240"/>
                    <a:gd name="textAreaRight" fmla="*/ 1884600 w 1884240"/>
                    <a:gd name="textAreaTop" fmla="*/ 0 h 2855880"/>
                    <a:gd name="textAreaBottom" fmla="*/ 2856240 h 2855880"/>
                  </a:gdLst>
                  <a:ahLst/>
                  <a:rect l="textAreaLeft" t="textAreaTop" r="textAreaRight" b="textAreaBottom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Group 26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>
                        <a:gd name="textAreaLeft" fmla="*/ 0 w 123480"/>
                        <a:gd name="textAreaRight" fmla="*/ 123840 w 123480"/>
                        <a:gd name="textAreaTop" fmla="*/ 0 h 209520"/>
                        <a:gd name="textAreaBottom" fmla="*/ 209880 h 209520"/>
                      </a:gdLst>
                      <a:ahLst/>
                      <a:rect l="textAreaLeft" t="textAreaTop" r="textAreaRight" b="textAreaBottom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>
                        <a:gd name="textAreaLeft" fmla="*/ 0 w 149040"/>
                        <a:gd name="textAreaRight" fmla="*/ 149400 w 149040"/>
                        <a:gd name="textAreaTop" fmla="*/ 0 h 370080"/>
                        <a:gd name="textAreaBottom" fmla="*/ 370440 h 370080"/>
                      </a:gdLst>
                      <a:ahLst/>
                      <a:rect l="textAreaLeft" t="textAreaTop" r="textAreaRight" b="textAreaBottom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Freeform 30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>
                      <a:gd name="textAreaLeft" fmla="*/ 0 w 835200"/>
                      <a:gd name="textAreaRight" fmla="*/ 835560 w 835200"/>
                      <a:gd name="textAreaTop" fmla="*/ 0 h 619200"/>
                      <a:gd name="textAreaBottom" fmla="*/ 619560 h 619200"/>
                    </a:gdLst>
                    <a:ahLst/>
                    <a:rect l="textAreaLeft" t="textAreaTop" r="textAreaRight" b="textAreaBottom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Freeform 31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>
                    <a:gd name="textAreaLeft" fmla="*/ 0 w 250920"/>
                    <a:gd name="textAreaRight" fmla="*/ 250920 w 250920"/>
                    <a:gd name="textAreaTop" fmla="*/ 0 h 600120"/>
                    <a:gd name="textAreaBottom" fmla="*/ 600480 h 600120"/>
                  </a:gdLst>
                  <a:ahLst/>
                  <a:rect l="textAreaLeft" t="textAreaTop" r="textAreaRight" b="textAreaBottom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>
                    <a:gd name="textAreaLeft" fmla="*/ 0 w 3375000"/>
                    <a:gd name="textAreaRight" fmla="*/ 3375360 w 3375000"/>
                    <a:gd name="textAreaTop" fmla="*/ 0 h 2840040"/>
                    <a:gd name="textAreaBottom" fmla="*/ 2840040 h 2840040"/>
                  </a:gdLst>
                  <a:ahLst/>
                  <a:rect l="textAreaLeft" t="textAreaTop" r="textAreaRight" b="textAreaBottom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Group 33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Freeform 34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>
                  <a:gd name="textAreaLeft" fmla="*/ 0 w 2003400"/>
                  <a:gd name="textAreaRight" fmla="*/ 2003760 w 2003400"/>
                  <a:gd name="textAreaTop" fmla="*/ 0 h 2460600"/>
                  <a:gd name="textAreaBottom" fmla="*/ 2460960 h 2460600"/>
                </a:gdLst>
                <a:ahLst/>
                <a:rect l="textAreaLeft" t="textAreaTop" r="textAreaRight" b="textAreaBottom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>
                  <a:gd name="textAreaLeft" fmla="*/ 0 w 681120"/>
                  <a:gd name="textAreaRight" fmla="*/ 681480 w 6811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2695680"/>
                  <a:gd name="textAreaBottom" fmla="*/ 2696040 h 2695680"/>
                </a:gdLst>
                <a:ahLst/>
                <a:rect l="textAreaLeft" t="textAreaTop" r="textAreaRight" b="textAreaBottom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1452-6067-4777-8578-0C48A372C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0" name="Group 3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1" name="Group 4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2" name="Group 5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3" name="Freeform 6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>
                      <a:gd name="textAreaLeft" fmla="*/ 0 w 125280"/>
                      <a:gd name="textAreaRight" fmla="*/ 125280 w 125280"/>
                      <a:gd name="textAreaTop" fmla="*/ 0 h 317520"/>
                      <a:gd name="textAreaBottom" fmla="*/ 317880 h 317520"/>
                    </a:gdLst>
                    <a:ahLst/>
                    <a:rect l="textAreaLeft" t="textAreaTop" r="textAreaRight" b="textAreaBottom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7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>
                      <a:gd name="textAreaLeft" fmla="*/ 0 w 231840"/>
                      <a:gd name="textAreaRight" fmla="*/ 232200 w 23184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42920"/>
                      <a:gd name="textAreaBottom" fmla="*/ 143280 h 142920"/>
                    </a:gdLst>
                    <a:ahLst/>
                    <a:rect l="textAreaLeft" t="textAreaTop" r="textAreaRight" b="textAreaBottom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Freeform 9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200"/>
                    <a:gd name="textAreaBottom" fmla="*/ 160560 h 16020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10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8" name="Group 11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89" name="Freeform 12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17720"/>
                      <a:gd name="textAreaBottom" fmla="*/ 118080 h 117720"/>
                    </a:gdLst>
                    <a:ahLst/>
                    <a:rect l="textAreaLeft" t="textAreaTop" r="textAreaRight" b="textAreaBottom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13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>
                      <a:gd name="textAreaLeft" fmla="*/ 0 w 85680"/>
                      <a:gd name="textAreaRight" fmla="*/ 85680 w 85680"/>
                      <a:gd name="textAreaTop" fmla="*/ 0 h 149040"/>
                      <a:gd name="textAreaBottom" fmla="*/ 149400 h 149040"/>
                    </a:gdLst>
                    <a:ahLst/>
                    <a:rect l="textAreaLeft" t="textAreaTop" r="textAreaRight" b="textAreaBottom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14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>
                      <a:gd name="textAreaLeft" fmla="*/ 0 w 150840"/>
                      <a:gd name="textAreaRight" fmla="*/ 151200 w 150840"/>
                      <a:gd name="textAreaTop" fmla="*/ 0 h 138240"/>
                      <a:gd name="textAreaBottom" fmla="*/ 138240 h 138240"/>
                    </a:gdLst>
                    <a:ahLst/>
                    <a:rect l="textAreaLeft" t="textAreaTop" r="textAreaRight" b="textAreaBottom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" name="Freeform 15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>
                    <a:gd name="textAreaLeft" fmla="*/ 0 w 1038240"/>
                    <a:gd name="textAreaRight" fmla="*/ 1038600 w 1038240"/>
                    <a:gd name="textAreaTop" fmla="*/ 0 h 1101600"/>
                    <a:gd name="textAreaBottom" fmla="*/ 1101960 h 1101600"/>
                  </a:gdLst>
                  <a:ahLst/>
                  <a:rect l="textAreaLeft" t="textAreaTop" r="textAreaRight" b="textAreaBottom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16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>
                    <a:gd name="textAreaLeft" fmla="*/ 0 w 576360"/>
                    <a:gd name="textAreaRight" fmla="*/ 576720 w 57636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17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>
                    <a:gd name="textAreaLeft" fmla="*/ 0 w 262080"/>
                    <a:gd name="textAreaRight" fmla="*/ 262440 w 262080"/>
                    <a:gd name="textAreaTop" fmla="*/ 0 h 288720"/>
                    <a:gd name="textAreaBottom" fmla="*/ 289080 h 288720"/>
                  </a:gdLst>
                  <a:ahLst/>
                  <a:rect l="textAreaLeft" t="textAreaTop" r="textAreaRight" b="textAreaBottom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18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395280"/>
                    <a:gd name="textAreaBottom" fmla="*/ 395640 h 395280"/>
                  </a:gdLst>
                  <a:ahLst/>
                  <a:rect l="textAreaLeft" t="textAreaTop" r="textAreaRight" b="textAreaBottom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19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372960"/>
                    <a:gd name="textAreaBottom" fmla="*/ 373320 h 372960"/>
                  </a:gdLst>
                  <a:ahLst/>
                  <a:rect l="textAreaLeft" t="textAreaTop" r="textAreaRight" b="textAreaBottom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0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>
                    <a:gd name="textAreaLeft" fmla="*/ 0 w 331920"/>
                    <a:gd name="textAreaRight" fmla="*/ 332280 w 331920"/>
                    <a:gd name="textAreaTop" fmla="*/ 0 h 492120"/>
                    <a:gd name="textAreaBottom" fmla="*/ 492480 h 492120"/>
                  </a:gdLst>
                  <a:ahLst/>
                  <a:rect l="textAreaLeft" t="textAreaTop" r="textAreaRight" b="textAreaBottom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1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541440"/>
                    <a:gd name="textAreaBottom" fmla="*/ 541440 h 541440"/>
                  </a:gdLst>
                  <a:ahLst/>
                  <a:rect l="textAreaLeft" t="textAreaTop" r="textAreaRight" b="textAreaBottom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22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458640"/>
                    <a:gd name="textAreaBottom" fmla="*/ 459000 h 458640"/>
                  </a:gdLst>
                  <a:ahLst/>
                  <a:rect l="textAreaLeft" t="textAreaTop" r="textAreaRight" b="textAreaBottom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Freeform 23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>
                    <a:gd name="textAreaLeft" fmla="*/ 0 w 262080"/>
                    <a:gd name="textAreaRight" fmla="*/ 262440 w 262080"/>
                    <a:gd name="textAreaTop" fmla="*/ 0 h 376200"/>
                    <a:gd name="textAreaBottom" fmla="*/ 376560 h 376200"/>
                  </a:gdLst>
                  <a:ahLst/>
                  <a:rect l="textAreaLeft" t="textAreaTop" r="textAreaRight" b="textAreaBottom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24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2" name="Freeform 25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>
                    <a:gd name="textAreaLeft" fmla="*/ 0 w 1884240"/>
                    <a:gd name="textAreaRight" fmla="*/ 1884600 w 1884240"/>
                    <a:gd name="textAreaTop" fmla="*/ 0 h 2855880"/>
                    <a:gd name="textAreaBottom" fmla="*/ 2856240 h 2855880"/>
                  </a:gdLst>
                  <a:ahLst/>
                  <a:rect l="textAreaLeft" t="textAreaTop" r="textAreaRight" b="textAreaBottom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Group 26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4" name="Group 27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5" name="Freeform 28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>
                        <a:gd name="textAreaLeft" fmla="*/ 0 w 123480"/>
                        <a:gd name="textAreaRight" fmla="*/ 123840 w 123480"/>
                        <a:gd name="textAreaTop" fmla="*/ 0 h 209520"/>
                        <a:gd name="textAreaBottom" fmla="*/ 209880 h 209520"/>
                      </a:gdLst>
                      <a:ahLst/>
                      <a:rect l="textAreaLeft" t="textAreaTop" r="textAreaRight" b="textAreaBottom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Freeform 29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>
                        <a:gd name="textAreaLeft" fmla="*/ 0 w 149040"/>
                        <a:gd name="textAreaRight" fmla="*/ 149400 w 149040"/>
                        <a:gd name="textAreaTop" fmla="*/ 0 h 369720"/>
                        <a:gd name="textAreaBottom" fmla="*/ 370080 h 369720"/>
                      </a:gdLst>
                      <a:ahLst/>
                      <a:rect l="textAreaLeft" t="textAreaTop" r="textAreaRight" b="textAreaBottom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Freeform 30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>
                      <a:gd name="textAreaLeft" fmla="*/ 0 w 835200"/>
                      <a:gd name="textAreaRight" fmla="*/ 835560 w 835200"/>
                      <a:gd name="textAreaTop" fmla="*/ 0 h 619200"/>
                      <a:gd name="textAreaBottom" fmla="*/ 619560 h 619200"/>
                    </a:gdLst>
                    <a:ahLst/>
                    <a:rect l="textAreaLeft" t="textAreaTop" r="textAreaRight" b="textAreaBottom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Freeform 31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>
                    <a:gd name="textAreaLeft" fmla="*/ 0 w 250920"/>
                    <a:gd name="textAreaRight" fmla="*/ 250920 w 250920"/>
                    <a:gd name="textAreaTop" fmla="*/ 0 h 600120"/>
                    <a:gd name="textAreaBottom" fmla="*/ 600480 h 600120"/>
                  </a:gdLst>
                  <a:ahLst/>
                  <a:rect l="textAreaLeft" t="textAreaTop" r="textAreaRight" b="textAreaBottom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32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>
                    <a:gd name="textAreaLeft" fmla="*/ 0 w 3375000"/>
                    <a:gd name="textAreaRight" fmla="*/ 3375360 w 3375000"/>
                    <a:gd name="textAreaTop" fmla="*/ 0 h 2840040"/>
                    <a:gd name="textAreaBottom" fmla="*/ 2840040 h 2840040"/>
                  </a:gdLst>
                  <a:ahLst/>
                  <a:rect l="textAreaLeft" t="textAreaTop" r="textAreaRight" b="textAreaBottom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" name="Group 33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1" name="Freeform 34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>
                  <a:gd name="textAreaLeft" fmla="*/ 0 w 2003400"/>
                  <a:gd name="textAreaRight" fmla="*/ 2003760 w 2003400"/>
                  <a:gd name="textAreaTop" fmla="*/ 0 h 2460960"/>
                  <a:gd name="textAreaBottom" fmla="*/ 2461320 h 2460960"/>
                </a:gdLst>
                <a:ahLst/>
                <a:rect l="textAreaLeft" t="textAreaTop" r="textAreaRight" b="textAreaBottom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35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>
                  <a:gd name="textAreaLeft" fmla="*/ 0 w 681120"/>
                  <a:gd name="textAreaRight" fmla="*/ 681480 w 6811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36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37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38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39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2695320"/>
                  <a:gd name="textAreaBottom" fmla="*/ 2695680 h 2695320"/>
                </a:gdLst>
                <a:ahLst/>
                <a:rect l="textAreaLeft" t="textAreaTop" r="textAreaRight" b="textAreaBottom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2881-FAAD-47FE-9302-2F657183F558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Beginnings of Civiliz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,700,000 to 587 B.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rst Homo Sapie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Neanderth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ppeared 35,000-130,000 years ago (Old Stone Ag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e animal ski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d fi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ried their de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ro-Magn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ppeared about 35,000 years ag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tter to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ve Ar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extboo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story less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ligiou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ree Stone Ag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l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dd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ld Stone Age</a:t>
            </a:r>
            <a:br>
              <a:rPr sz="4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www.chennaimuseum.org/.../ 02/05/prehist.ht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y crude to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ones used to throw at anim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0" name="Picture 6" descr="old stone age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ddle Stone Age </a:t>
            </a:r>
            <a:br>
              <a:rPr sz="4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www.dungarvanmuseum.org/ index.cgi?art_id=5&amp;pa..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Mesolithic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0,000 to 5,500 years ag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only use stones but bo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ows and arrow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sh hoo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rpo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Picture 6" descr="midd stone age"/>
          <p:cNvPicPr/>
          <p:nvPr/>
        </p:nvPicPr>
        <p:blipFill>
          <a:blip r:embed="rId1"/>
          <a:stretch/>
        </p:blipFill>
        <p:spPr>
          <a:xfrm>
            <a:off x="906480" y="1981080"/>
            <a:ext cx="3368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 Stone Age</a:t>
            </a:r>
            <a:br>
              <a:rPr sz="4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www.turizm.net/turkey/ history/neolithic.htm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eolithic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velopment of Agricult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mestication of animals/plants for fo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6" name="Picture 6" descr="neolithic"/>
          <p:cNvPicPr/>
          <p:nvPr/>
        </p:nvPicPr>
        <p:blipFill>
          <a:blip r:embed="rId1"/>
          <a:stretch/>
        </p:blipFill>
        <p:spPr>
          <a:xfrm>
            <a:off x="5025960" y="1981080"/>
            <a:ext cx="305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aracteristics of the Evolution of Civiliz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griculture to Surplus Produc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ople began to grow more food than they would need – allowed people to do things other than far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stablishment of Towns/Cities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th surplus populations could gro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milies now could be larg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286000" y="144792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www.turizm.net/turkey/ history/neolithic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6" name="Picture 7" descr="town"/>
          <p:cNvPicPr/>
          <p:nvPr/>
        </p:nvPicPr>
        <p:blipFill>
          <a:blip r:embed="rId1"/>
          <a:stretch/>
        </p:blipFill>
        <p:spPr>
          <a:xfrm>
            <a:off x="4869000" y="1981080"/>
            <a:ext cx="3367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vision of Labor</a:t>
            </a:r>
            <a:br>
              <a:rPr sz="4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www.jupiter.fl.us/.../ BuildingSafety.ht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owns/cities people could specialize in one job or anoth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9" name="Picture 6" descr="workers"/>
          <p:cNvPicPr/>
          <p:nvPr/>
        </p:nvPicPr>
        <p:blipFill>
          <a:blip r:embed="rId1"/>
          <a:stretch/>
        </p:blipFill>
        <p:spPr>
          <a:xfrm>
            <a:off x="790560" y="1981080"/>
            <a:ext cx="3600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volution of Civiliz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sser Characteristic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ploration of Prehisto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lendar</a:t>
            </a:r>
            <a:br>
              <a:rPr sz="4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www.hcc-nd.edu/images/ Calendars-Oct03.gi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ed to track seasons for planting/harvesting and migrations (if neede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4" name="Picture 7" descr="cal"/>
          <p:cNvPicPr/>
          <p:nvPr/>
        </p:nvPicPr>
        <p:blipFill>
          <a:blip r:embed="rId1"/>
          <a:stretch/>
        </p:blipFill>
        <p:spPr>
          <a:xfrm>
            <a:off x="4648320" y="2511360"/>
            <a:ext cx="380988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rm of Writing</a:t>
            </a:r>
            <a:br>
              <a:rPr sz="4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mrspock.marion.ohio-state.edu/.../ cuneiform.ht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ed for commun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rly forms were cumbersome with too many symbols – became better as time pa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7" name="Picture 6" descr="writig"/>
          <p:cNvPicPr/>
          <p:nvPr/>
        </p:nvPicPr>
        <p:blipFill>
          <a:blip r:embed="rId1"/>
          <a:stretch/>
        </p:blipFill>
        <p:spPr>
          <a:xfrm>
            <a:off x="685800" y="2282760"/>
            <a:ext cx="380988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velopment of Metal Ag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ronze Age</a:t>
            </a:r>
            <a:br>
              <a:rPr sz="4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domino.kappa.ro/.../ ist_ilustrata/$file/4.jp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veloped as an alloy of copper and ti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sily made into to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akness: not strong enoug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2" name="Picture 6" descr="bron"/>
          <p:cNvPicPr/>
          <p:nvPr/>
        </p:nvPicPr>
        <p:blipFill>
          <a:blip r:embed="rId1"/>
          <a:stretch/>
        </p:blipFill>
        <p:spPr>
          <a:xfrm>
            <a:off x="1123920" y="1981080"/>
            <a:ext cx="2933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ron Age</a:t>
            </a:r>
            <a:br>
              <a:rPr sz="4400"/>
            </a:br>
            <a:r>
              <a:rPr b="0" lang="en-US" sz="1200" spc="-1" strike="noStrike">
                <a:solidFill>
                  <a:srgbClr val="008000"/>
                </a:solidFill>
                <a:latin typeface="Arial"/>
                <a:ea typeface="Arial"/>
              </a:rPr>
              <a:t>www.hants.gov.uk/museum/ ironagem/reception.htm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ron was smelted (melted) from iron o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ch stronger than bronz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ave those who possessed iron weapons a huge advantage over those who did no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5" name="Picture 6" descr="iron"/>
          <p:cNvPicPr/>
          <p:nvPr/>
        </p:nvPicPr>
        <p:blipFill>
          <a:blip r:embed="rId1"/>
          <a:stretch/>
        </p:blipFill>
        <p:spPr>
          <a:xfrm>
            <a:off x="5238720" y="1981080"/>
            <a:ext cx="2629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arly Civiliz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gyptia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gypt:  Role of the Ni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ivilization found upon the Nile River Vall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ile River is the longest river flowing north in the Wor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2" name="Picture 6" descr="nile_map"/>
          <p:cNvPicPr/>
          <p:nvPr/>
        </p:nvPicPr>
        <p:blipFill>
          <a:blip r:embed="rId1"/>
          <a:stretch/>
        </p:blipFill>
        <p:spPr>
          <a:xfrm>
            <a:off x="4676760" y="1981080"/>
            <a:ext cx="375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ile Ri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lows northward – divided into two part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pper Egypt (South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wer Egypt (North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iginates at Lake Victo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tarac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rrounded by two deser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lows into delta – then into the Mediterrane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5" name="Picture 12" descr="ancient_egypt"/>
          <p:cNvPicPr/>
          <p:nvPr/>
        </p:nvPicPr>
        <p:blipFill>
          <a:blip r:embed="rId1"/>
          <a:stretch/>
        </p:blipFill>
        <p:spPr>
          <a:xfrm>
            <a:off x="979560" y="1981080"/>
            <a:ext cx="3220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ile River:  Lifeblood of Egypt</a:t>
            </a:r>
            <a:br>
              <a:rPr sz="4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www.wwnorton.com/.../ nawol/maps/MAP3EGYP.JP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ile River floods yearly leaving silt in valleys adjacent to River – provide fertile so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&lt; Flooding – Bad crop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&gt; Flooding – Villages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wept awa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8" name="Picture 9" descr="-Flood"/>
          <p:cNvPicPr/>
          <p:nvPr/>
        </p:nvPicPr>
        <p:blipFill>
          <a:blip r:embed="rId1"/>
          <a:stretch/>
        </p:blipFill>
        <p:spPr>
          <a:xfrm>
            <a:off x="5202360" y="1981080"/>
            <a:ext cx="2700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minids</a:t>
            </a:r>
            <a:br>
              <a:rPr sz="44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ww.houseofcanes.com/ ordinfo.ht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y characterist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alk uprigh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4" name="Picture 9" descr="homonids"/>
          <p:cNvPicPr/>
          <p:nvPr/>
        </p:nvPicPr>
        <p:blipFill>
          <a:blip r:embed="rId1"/>
          <a:stretch/>
        </p:blipFill>
        <p:spPr>
          <a:xfrm>
            <a:off x="4876920" y="1981080"/>
            <a:ext cx="340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gypt moves toward Civilization</a:t>
            </a:r>
            <a:br>
              <a:rPr sz="44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stro.temple.edu/ ~rguay/rosetta%20stone.jpg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000 B.C. – Hieroglyphics developed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nguage artists have been able to translate the Hieroglyphics with use of the Rosetta Sto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1" name="Picture 7" descr="rosetta%20stone"/>
          <p:cNvPicPr/>
          <p:nvPr/>
        </p:nvPicPr>
        <p:blipFill>
          <a:blip r:embed="rId1"/>
          <a:stretch/>
        </p:blipFill>
        <p:spPr>
          <a:xfrm>
            <a:off x="5105520" y="2286000"/>
            <a:ext cx="2948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gyptian Kingdo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nes</a:t>
            </a:r>
            <a:br>
              <a:rPr sz="44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members.tripodnet.nl/ ancientegypt/history.htm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ites Upper (southern) and Lower (northern) Egypt in 3200 B.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gins the first of  30 dynasties of Egyp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6" name="Picture 6" descr="Menes"/>
          <p:cNvPicPr/>
          <p:nvPr/>
        </p:nvPicPr>
        <p:blipFill>
          <a:blip r:embed="rId1"/>
          <a:stretch/>
        </p:blipFill>
        <p:spPr>
          <a:xfrm>
            <a:off x="5141880" y="1981080"/>
            <a:ext cx="2822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ld Kingdo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680 B.C. to 2180 B. 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chievements in Arts and Science</a:t>
            </a:r>
            <a:br>
              <a:rPr sz="44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ww.astro.utoronto.ca/ ~yao/egypt1999/sphinx.gi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Great Sphinx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1" name="Picture 6" descr="Great"/>
          <p:cNvPicPr/>
          <p:nvPr/>
        </p:nvPicPr>
        <p:blipFill>
          <a:blip r:embed="rId1"/>
          <a:stretch/>
        </p:blipFill>
        <p:spPr>
          <a:xfrm>
            <a:off x="4648320" y="2989440"/>
            <a:ext cx="380988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Old Kingdo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ss socie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wer:  Peasants and Farm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pper:  Pharaoh, the Royal Family, Priests, Scribes, and Government Offici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 end of dynasty the pharaohs became weaker and the nobles grew strong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volutions began probably because of famine and lack of fo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rst Intermediate Perio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sted from 2180 B.C. to 2050 B.C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me period marked by many civil wa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iod ends as new line of pharaoh comes to pow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Middle Kingdo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050 B.C. to 1650 B.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ddle Kingdo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idered the “golden age” of Egyp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ble and Priests begin to challenge the power of the Pharaoh – led to instabil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iod also marked by invasions of Hyks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putes arise over how devastating the Hyksos invasion was on the Egyptia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yksos did bring in new tools of warfare: the chariot and compound bo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cond Intermediate Perio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gins as Hyksos gain control of all of Egypt – probably because of the weakness of Egyp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iod ends as new line of rulers come to pow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ole of Artifacts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ww.texasbeyondhistory.net/ rubin/images/artif..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t us know more about ancient cult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what limited – theories have formed to attempt to explain the pa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Picture 6" descr="artifacts"/>
          <p:cNvPicPr/>
          <p:nvPr/>
        </p:nvPicPr>
        <p:blipFill>
          <a:blip r:embed="rId1"/>
          <a:stretch/>
        </p:blipFill>
        <p:spPr>
          <a:xfrm>
            <a:off x="828720" y="1981080"/>
            <a:ext cx="3522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New Kingdo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570 B.C. to 1080 B.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 Kingdo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ingdom centered around their capital, Theb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ove the Hyksos out of Egypt with use of a strong arm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gin to build an empi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trongest of the rulers were…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atshepsut</a:t>
            </a:r>
            <a:br>
              <a:rPr sz="44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ww.antropos.galeon.com/ html/FARAON.ht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rst female to ever hold the title of Pharoa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chnically co-ruler – with her s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pt empire’s boundaries secure and built tr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8" name="Picture 6" descr="hat"/>
          <p:cNvPicPr/>
          <p:nvPr/>
        </p:nvPicPr>
        <p:blipFill>
          <a:blip r:embed="rId1"/>
          <a:stretch/>
        </p:blipFill>
        <p:spPr>
          <a:xfrm>
            <a:off x="4960800" y="1981080"/>
            <a:ext cx="318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utmose III</a:t>
            </a:r>
            <a:br>
              <a:rPr sz="44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ww.fruitofthenile.com/ tuthiii.ht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epson of Hatshepsu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inued trend of moth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anded Egypt’s territory to its largest extent until his death in 1450 B.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1" name="Picture 6" descr="tht"/>
          <p:cNvPicPr/>
          <p:nvPr/>
        </p:nvPicPr>
        <p:blipFill>
          <a:blip r:embed="rId1"/>
          <a:stretch/>
        </p:blipFill>
        <p:spPr>
          <a:xfrm>
            <a:off x="1042920" y="1981080"/>
            <a:ext cx="3094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menhotep IV</a:t>
            </a:r>
            <a:br>
              <a:rPr sz="44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nefertiti.iwebland.com/ portraiture/18d/amenho..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rst monotheistical leader of Eygp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lieved in the sun god, At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nged name to Akhenat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fter his death, Egypt returns to polytheis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4" name="Picture 6" descr="amen"/>
          <p:cNvPicPr/>
          <p:nvPr/>
        </p:nvPicPr>
        <p:blipFill>
          <a:blip r:embed="rId1"/>
          <a:stretch/>
        </p:blipFill>
        <p:spPr>
          <a:xfrm>
            <a:off x="4951440" y="1981080"/>
            <a:ext cx="3203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amses II (the Great)</a:t>
            </a:r>
            <a:br>
              <a:rPr sz="44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forums.tactical-ops.de/ showthread.php?t=5906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uled from 1279 B.C. to 1215 B.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reat Buil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idered to be the pharoah at the time of the Exod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ter pharoahs were wea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7" name="Picture 6" descr="r"/>
          <p:cNvPicPr/>
          <p:nvPr/>
        </p:nvPicPr>
        <p:blipFill>
          <a:blip r:embed="rId1"/>
          <a:stretch/>
        </p:blipFill>
        <p:spPr>
          <a:xfrm>
            <a:off x="685800" y="2176560"/>
            <a:ext cx="38098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gyptian Achieveme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rts and Architecture</a:t>
            </a:r>
            <a:br>
              <a:rPr sz="44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forum.paradoxplaza.com/ forum/showthread.php?g..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yramids – close to perfect symmet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d as tombs for the pharoah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2" name="Picture 6" descr="p"/>
          <p:cNvPicPr/>
          <p:nvPr/>
        </p:nvPicPr>
        <p:blipFill>
          <a:blip r:embed="rId1"/>
          <a:stretch/>
        </p:blipFill>
        <p:spPr>
          <a:xfrm>
            <a:off x="4648320" y="276876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cience, Math, and Medici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ised a 365 day calend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d numbering system based on 1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d herbs for medicinal purpo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ummification – preservation of dea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oples of the Fertile Cresc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84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Lucy</a:t>
            </a:r>
            <a:br>
              <a:rPr sz="5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www.pbs.org/saf/ 1105/features/eureka3.ht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ldest human-like skeletal remains ever fou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-4 Million Years o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nd in Afr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covery has been questioned lately over the species of the fi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Picture 6" descr="images"/>
          <p:cNvPicPr/>
          <p:nvPr/>
        </p:nvPicPr>
        <p:blipFill>
          <a:blip r:embed="rId1"/>
          <a:stretch/>
        </p:blipFill>
        <p:spPr>
          <a:xfrm>
            <a:off x="5721480" y="1981080"/>
            <a:ext cx="1662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ertile Crescent</a:t>
            </a:r>
            <a:br>
              <a:rPr sz="44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xenohistorian.faithweb.com/ worldhis/Hist02.htm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tuated along the Tigris-Euphrates River valle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ch like Egypt in that it needed rivers to flood for irrig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ivers begin in mountains of Turkey and flow into the Persian Gu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9" name="Picture 6" descr="fc"/>
          <p:cNvPicPr/>
          <p:nvPr/>
        </p:nvPicPr>
        <p:blipFill>
          <a:blip r:embed="rId1"/>
          <a:stretch/>
        </p:blipFill>
        <p:spPr>
          <a:xfrm>
            <a:off x="4648320" y="2819520"/>
            <a:ext cx="38098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meria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cated in Sum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unei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rc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syst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ds were forces of nature and heavenly bod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kkadians</a:t>
            </a:r>
            <a:br>
              <a:rPr sz="44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ww.utexas.edu/courses/ clubmed/sargon.jpg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jor leader was Sarg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334 B.C. to 2279 B.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kkadian empire lasted 150 yea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5" name="Picture 7" descr="sargon"/>
          <p:cNvPicPr/>
          <p:nvPr/>
        </p:nvPicPr>
        <p:blipFill>
          <a:blip r:embed="rId1"/>
          <a:stretch/>
        </p:blipFill>
        <p:spPr>
          <a:xfrm>
            <a:off x="1150920" y="1981080"/>
            <a:ext cx="2879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abylonians</a:t>
            </a:r>
            <a:br>
              <a:rPr sz="44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ww.globalsecurity.org/.../ images/hammurabi.jpg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reatest Leader – Hammurab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de of Hammurab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ule from 1792 B.C.t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ch like the Sumerians in many wa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8" name="Picture 7" descr="hammurabi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hammurabi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4"/>
          <p:cNvSpPr/>
          <p:nvPr/>
        </p:nvSpPr>
        <p:spPr>
          <a:xfrm>
            <a:off x="2209680" y="6248520"/>
            <a:ext cx="9144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ales.cica.es/.../ HisArtLit/01/hammurabi.jpg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ittites</a:t>
            </a:r>
            <a:br>
              <a:rPr sz="44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efertiti.iwebland.com/ hittites.jpg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rlik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mong first peoples to smelt ir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re from Asia Min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vaded Babylonian area around 1600 B.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3" name="Picture 7" descr="hittites"/>
          <p:cNvPicPr/>
          <p:nvPr/>
        </p:nvPicPr>
        <p:blipFill>
          <a:blip r:embed="rId1"/>
          <a:stretch/>
        </p:blipFill>
        <p:spPr>
          <a:xfrm>
            <a:off x="849240" y="1981080"/>
            <a:ext cx="3481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hittites_reg"/>
          <p:cNvPicPr/>
          <p:nvPr/>
        </p:nvPicPr>
        <p:blipFill>
          <a:blip r:embed="rId1"/>
          <a:stretch/>
        </p:blipFill>
        <p:spPr>
          <a:xfrm>
            <a:off x="1523880" y="762120"/>
            <a:ext cx="6137280" cy="460692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6"/>
          <p:cNvSpPr/>
          <p:nvPr/>
        </p:nvSpPr>
        <p:spPr>
          <a:xfrm>
            <a:off x="2438280" y="563868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ww.sarissa.org/ images/hittites_reg.jpg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syrians</a:t>
            </a:r>
            <a:br>
              <a:rPr sz="44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embers.shaw.ca/ scud/assyrians.jpg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rrior lik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rst people to use chariots and cavalry in batt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rst to effectively rule a large empi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pital was Ninev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8" name="Picture 7" descr="assyrians"/>
          <p:cNvPicPr/>
          <p:nvPr/>
        </p:nvPicPr>
        <p:blipFill>
          <a:blip r:embed="rId1"/>
          <a:stretch/>
        </p:blipFill>
        <p:spPr>
          <a:xfrm>
            <a:off x="4648320" y="2655720"/>
            <a:ext cx="38098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map_assyrian_empire_700_bc"/>
          <p:cNvPicPr/>
          <p:nvPr/>
        </p:nvPicPr>
        <p:blipFill>
          <a:blip r:embed="rId1"/>
          <a:stretch/>
        </p:blipFill>
        <p:spPr>
          <a:xfrm>
            <a:off x="990720" y="304920"/>
            <a:ext cx="7386480" cy="55386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1355760" y="6058080"/>
            <a:ext cx="6492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2133720" y="6019920"/>
            <a:ext cx="5410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ww.bible-history.com/ people/assyrians/map_as..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aldeans</a:t>
            </a:r>
            <a:br>
              <a:rPr sz="44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ww.cts.edu/.../Images/ oldtest/TissNebu.jpg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st leader was Nebuchadnezz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anging Gardens of Babyl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iblical stor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killed astrolog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lculated the length of a ye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feated by the Persia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4" name="Picture 7" descr="TissNebu"/>
          <p:cNvPicPr/>
          <p:nvPr/>
        </p:nvPicPr>
        <p:blipFill>
          <a:blip r:embed="rId1"/>
          <a:stretch/>
        </p:blipFill>
        <p:spPr>
          <a:xfrm>
            <a:off x="1498680" y="1981080"/>
            <a:ext cx="218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rst Humans</a:t>
            </a:r>
            <a:br>
              <a:rPr sz="44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ww.sonoma.edu/.../ anclub/neanderfacts.htm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werful ja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ceding chi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ow forehea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eavy eyebrow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3" name="Picture 6" descr="first 1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7hanging"/>
          <p:cNvPicPr/>
          <p:nvPr/>
        </p:nvPicPr>
        <p:blipFill>
          <a:blip r:embed="rId1"/>
          <a:stretch/>
        </p:blipFill>
        <p:spPr>
          <a:xfrm>
            <a:off x="685800" y="304920"/>
            <a:ext cx="7907400" cy="521784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1965240" y="5753160"/>
            <a:ext cx="5426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1981080" y="579132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ww.faculty.fairfield.edu/ jmac/rs/7hanging.gi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rsia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st lead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d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Cyrus***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ri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Xerx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ept large empi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ilt extensive road sys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ligious belief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sian army defeated by Alexander the Great (Macedonia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0" name="Picture 7" descr="cyrus"/>
          <p:cNvPicPr/>
          <p:nvPr/>
        </p:nvPicPr>
        <p:blipFill>
          <a:blip r:embed="rId1"/>
          <a:stretch/>
        </p:blipFill>
        <p:spPr>
          <a:xfrm>
            <a:off x="4838760" y="19810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re First Humans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ww.public.iastate.edu/ ~cfford/342ggsintro.ht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unter/gather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mad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aveled in clans of 40-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 hunted while women gathered nuts/berries/see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6" name="Picture 6" descr="first"/>
          <p:cNvPicPr/>
          <p:nvPr/>
        </p:nvPicPr>
        <p:blipFill>
          <a:blip r:embed="rId1"/>
          <a:stretch/>
        </p:blipFill>
        <p:spPr>
          <a:xfrm>
            <a:off x="4824360" y="1981080"/>
            <a:ext cx="345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mo Sapiens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www.fossils-as-art.com/ images/0200.jp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ppeared on the scene between 100,000 and 400,000 years ag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9" name="Picture 6" descr="homosapiens"/>
          <p:cNvPicPr/>
          <p:nvPr/>
        </p:nvPicPr>
        <p:blipFill>
          <a:blip r:embed="rId1"/>
          <a:stretch/>
        </p:blipFill>
        <p:spPr>
          <a:xfrm>
            <a:off x="1023840" y="1981080"/>
            <a:ext cx="3132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ce Ages</a:t>
            </a:r>
            <a:br>
              <a:rPr sz="4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www.salzburg.com/ freizeit/185_3920.ht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ral over 1.7 million yea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rm era that we live in today started about 10,000 years ago – coincides with last ice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Picture 6" descr="iceage"/>
          <p:cNvPicPr/>
          <p:nvPr/>
        </p:nvPicPr>
        <p:blipFill>
          <a:blip r:embed="rId1"/>
          <a:stretch/>
        </p:blipFill>
        <p:spPr>
          <a:xfrm>
            <a:off x="4560840" y="1981080"/>
            <a:ext cx="3527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15:04:05Z</dcterms:created>
  <dc:creator>West Iredell High School</dc:creator>
  <dc:description/>
  <dc:language>en-US</dc:language>
  <cp:lastModifiedBy>SJCSD</cp:lastModifiedBy>
  <dcterms:modified xsi:type="dcterms:W3CDTF">2010-08-20T13:23:50Z</dcterms:modified>
  <cp:revision>15</cp:revision>
  <dc:subject/>
  <dc:title>Unit 1</dc:title>
</cp:coreProperties>
</file>